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11A7-E894-4F3A-9B6F-FB08879EB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25EB-A491-4C0F-9A96-E7FAF870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1E9C-4684-436B-B231-092E96190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5BDC-10F4-4933-9C8F-5074DC60D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F782-37F8-41ED-9FB7-BE920C98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13C1-FB65-460D-B089-DE0455C6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AC33-AB80-45A2-A600-CA7ECD41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9FF2-3E23-4C5A-BD5C-FA448C24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9BDF-9A24-403E-A591-82A1EE5D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CCEC-E236-4C25-B442-9C186CB1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ABEC-E7AF-453F-95DF-7BD2C205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8C8A-7E9C-4AAD-8E1B-AA0946FF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AE78-E9C0-4DF5-A0F3-C16C93DF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8EC0-7E43-4155-AC86-8F371A76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0760-E812-47E0-AD55-ABA46348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15A8-8FA4-47A0-9DC1-263C2A7E1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AA5F-59E5-4173-B3DF-A7FE07168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A731-3B1F-4C0D-9CA6-B5677C22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F7C7-DB31-4280-ADA4-77ED48F8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E66F-E304-451D-BF45-F8A351D7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B1A9-B959-4ACA-B87C-ECB1B094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DBE3-4205-4569-AFCA-D423B5BB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A875-8DD8-4008-B265-EA14613A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CB31-9284-4F89-9C8E-83DDE143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99DA-F816-4ABB-9081-51749302262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B2F4-E0EC-464D-B9E0-D763022723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orial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ther Types of Editorial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-Op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hoto Surve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-Count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low readers with differing opinions to express opinions side by sid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unctions of Editorial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uade, explain, criticize, express warning, entertain, praise, provide 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of these individually, look on pages 305-310 in your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lecting Editorial Topic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chosen by the editorial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mportant to my read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select controversial su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You need approva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You may want outside assistan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riting the Editori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written in first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somewhat inf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the outline provided (page 3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lum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-written pieces that convey current attit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colum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file columns – focus on individua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atirical columns – focus on something funn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ashion and fad colum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-the-clubs columns – give clubs credi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ames-in-the-news columns – awar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Q-A columns – answer questions from read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view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anything goes – movies, theatre, Web sites, restaurants, books, mu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following approaches to write a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ing comparis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valuating fulfillment and intended purpo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emizing strengths and weakness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ore Review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ing performances – use these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cting, sets, dialogue, lighting, sound, dire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use rating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rs, thumb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etters to the Edit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readers to speak their mi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have a statement regarding le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name verification – no unsigned letter pri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many similar letters arrive, you can print one with a 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ditorial Carto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use caric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ypes of editorial carto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rtoon as symbol – image represents an attitud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rtoon as metaphor – likens one thing to anoth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rtoon as joke on current ev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3:07:42Z</dcterms:created>
  <dc:creator>jvanengen</dc:creator>
  <dc:description/>
  <dc:language>en-US</dc:language>
  <cp:lastModifiedBy>jvanengen</cp:lastModifiedBy>
  <dcterms:modified xsi:type="dcterms:W3CDTF">2009-03-24T13:17:07Z</dcterms:modified>
  <cp:revision>6</cp:revision>
  <dc:subject/>
  <dc:title>Chapter 13</dc:title>
</cp:coreProperties>
</file>